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7315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409400" y="720360"/>
            <a:ext cx="449748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E4AA-1B70-482C-BEBC-FEA6B0CC9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95123-862A-4B68-B4F1-A2A1DE17C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6CF97-88FD-4ADA-BA75-D662FFDB8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AE2CE-AE06-4513-B9D8-705A9341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47A32-C0F7-4037-9381-3F395F8BD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gram is  available through the Opportunitie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B040-0238-4C5F-A5CE-0DAE83B44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progr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lass busines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mentoring and support from a business counsel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epreneurial support during the business plan writ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umber of wee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program varies by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16040" y="4564080"/>
            <a:ext cx="585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A420B-0F6C-4497-B009-E1DBA7F0F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basic client eligibility only, a vpi Career Specialist can discuss eligibility requirements in greater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61998-352D-4204-A3B0-49EAE2D58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ient would not be eligible for the OSEB program if participated in any Self Employment training program (i.e. provincial or other) within the last 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706DC-3797-493C-8B64-9B62428D6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work experience to unemployed job seekers within projects that benefit the community or local econom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ir participation, participants in the program will have recent work experience and additional skills to add to their résumés, increasing their chances of successfully finding long-term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JCP ends if individual secures full time employment with existing JCP sponsor or with an external emplo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25839-F45B-4390-970F-B49F84AD5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for a newcomer to Canada that needs their first Canadian experience in the workplace or Canadians that want to change or start a new job in a career they have no previous job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104A4-FCF9-4CA0-A825-4FEB72FE8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FB753-BFFE-454C-BDFD-AF4614AD2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ing of work experience fields.  This program offers 8-12 weeks of unpaid work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D8CDE-3582-4D9D-9BFD-1316E3BA7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0462B-A561-4E82-9FE1-796785010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of tra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Bricklayer, Civil Engineering Technician, Roofer, Painter, Crane Operator, Scaf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strial/Manufactu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achinists, Tool and Die Makers, Instrument Makers, Mold Makers and Pattern Makers build precise, complex tools and parts for the aerospace, medical, defense, automotive, construction and consumer product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e P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Motive Power Technician – Trade Related to Automotive, Heavy Duty Mechanic, Truck and Coach Technic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airstylists/Barbers/Cosmetologists and Cooks/Chefs), Public Safety Officers (firefighters and correctional officers), and Funeral Directo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out more about these trades go to 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www.tcu.gov.on.ca/eng/employmentontario/training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40136-D581-4513-B1C5-4289E3087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77DCF-C88F-484B-8B16-490BDA414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1A1CF-191B-4F6C-B30C-88FECAC80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DFBCA-5230-4D2F-9721-A401E3828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5C8FC-DA3E-47D6-A9A3-16AB74062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CFC4D-8425-483E-A37B-0ECF3218C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81270-16C9-4BA2-B757-F289E3561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isual of vpi Employment Services, highlighting the various client pathways and services leading to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2F5FD-020F-4FB4-AF1D-C7602DFCE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78493-AE43-4922-BC9B-38DCD9267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1045B-E606-480D-ADCE-370C43791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se sessions are intended to assist individuals with exploring career options as well as maximizing job search and job retention succe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eedback sessions are available for:  resume and interview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scriptions and calendar available at reception / Steps To Success s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F9EE-7CD7-40AB-B879-4BFA494FB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080-0622-42A3-A4DE-180B6489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D30-2CD4-42EE-8982-C51C4D85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95D-573C-4E6E-8658-AECD0C15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F8C-1244-4FE5-A508-CFD6EFAF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57AC-4189-4D7F-8670-295570A1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DBA0-1706-4462-82A7-97A98127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3709-B194-42A2-B023-B02E6737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207-FA87-4067-ABE9-F6598F49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D4E0-BB03-47F2-A617-6226B613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07F8-CF85-465A-BAD9-5FECA100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C9AD-CD93-40CA-A16F-F2B7434F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181-6282-4E2D-AE58-E21C8AA5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44FE-E36D-4EB5-A0C6-862082E3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93D7-BB65-42AE-8DB2-B752518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09CD-29EE-4573-A4FB-28B88FAE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3849-F709-400F-9DB5-5C17976E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B979-FA88-4EC7-99E8-C832F23B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508-252F-478E-BAB3-92BA884F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984-6904-4EC7-8BF7-C599D86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056-0BAA-4992-AC04-F2916A2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2A2-C272-4ACE-9839-C045808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B0B-1549-4D4E-8034-241C049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978-D0E4-4F24-BEDE-C0EF97D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9A4-E8C2-496D-B873-977F5B1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6A98-D4B7-4461-8F15-046BB08AA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EW LOGO 2005"/>
          <p:cNvPicPr/>
          <p:nvPr/>
        </p:nvPicPr>
        <p:blipFill>
          <a:blip r:embed="rId3">
            <a:lum bright="48000"/>
          </a:blip>
          <a:srcRect l="2499" t="0" r="0" b="17502"/>
          <a:stretch/>
        </p:blipFill>
        <p:spPr>
          <a:xfrm>
            <a:off x="1600200" y="2031840"/>
            <a:ext cx="5943600" cy="268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4111-DC0F-4CF1-A0C1-37006180C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3"/>
          <p:cNvSpPr/>
          <p:nvPr/>
        </p:nvSpPr>
        <p:spPr>
          <a:xfrm>
            <a:off x="2133720" y="15238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LCOME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838080" y="2819520"/>
            <a:ext cx="6934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A Presentation on </a:t>
            </a:r>
            <a:r>
              <a:rPr b="1" i="1" lang="en-US" sz="4800" spc="-1" strike="noStrike">
                <a:solidFill>
                  <a:srgbClr val="003399"/>
                </a:solidFill>
                <a:latin typeface="Eras Demi ITC"/>
              </a:rPr>
              <a:t>vpi</a:t>
            </a:r>
            <a:r>
              <a:rPr b="1" i="1" lang="en-US" sz="48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mployme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 /Underemployed persons not in full-time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ble to secure work independently due to multiple employment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entitled to work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Career –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 of Second Career is to support laid off, unemployed individuals who require skills training to assist them to find employment in occupations with demonstr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ur market prosp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Ontar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Red-Tag"/>
          <p:cNvPicPr/>
          <p:nvPr/>
        </p:nvPicPr>
        <p:blipFill>
          <a:blip r:embed="rId1"/>
          <a:stretch/>
        </p:blipFill>
        <p:spPr>
          <a:xfrm>
            <a:off x="5562720" y="2819520"/>
            <a:ext cx="276228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s Enhancement Programmes for Persons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assist with the application process to obtain funding for upgrading from  Employment Ontario &amp; The Opportunities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Un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Legally entitled to work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urrent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EI / reach-back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dentify as having a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001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tario Self-Employment Benefit –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entrepreneurial skills development support to approved participants to help them develop and implement their business plan and become self empl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rticipants to concentrate on building a sustainable business by providing them with financial assistance while they receive business advice and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773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for the Ontario Self Employment Benefi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Basic Client 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 Maternity or Parental claim that began within the past 60 months (5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Eligi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have a viable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the business support and t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posses the skills and relevant qualifications (if any) necessary to carry out their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not have previously owned and operated a successful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Creation Part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s an opportunity for individuals who want to develop their skills, gain work experience, build their résumé, and create networking conn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last up to 52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ends if employment is secu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gib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for EI Benefits or qualify for Reachback stat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ed after real businesses to provide unemployed individuals with “hands on” experience in their field in which they have experience and/or training while looking for emplo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5438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ed or under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years of age or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work in real departments of a simulated business &amp; gain valuable work experience in area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2"/>
          <p:cNvSpPr/>
          <p:nvPr/>
        </p:nvSpPr>
        <p:spPr>
          <a:xfrm>
            <a:off x="838080" y="3429000"/>
            <a:ext cx="3962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3"/>
          <p:cNvSpPr/>
          <p:nvPr/>
        </p:nvSpPr>
        <p:spPr>
          <a:xfrm>
            <a:off x="441972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/S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our Pres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ril Graing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ul Burn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n Apprenticeshi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enticeship is the entry point and the path to a rewarding career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killed tr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s hands-on training learned in the workpl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involves classroom based instruction at a post-secondary i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apprentice"/>
          <p:cNvPicPr/>
          <p:nvPr/>
        </p:nvPicPr>
        <p:blipFill>
          <a:blip r:embed="rId1"/>
          <a:stretch/>
        </p:blipFill>
        <p:spPr>
          <a:xfrm>
            <a:off x="4981680" y="2128680"/>
            <a:ext cx="337176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 has apprenticeship programs for more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trad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occupation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sect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/manufact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e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Apprenticeship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programs will support potential entrants to the apprenticeship system who require job readiness skills and trade readiness experience to gain employment as Apprent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ment Resource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faxing, photocopying, local phone calls and computers with high speed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resources are available to assist you with your job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source Specialist is always available for assistance in the 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l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deal candidate for </a:t>
            </a:r>
            <a:r>
              <a:rPr b="0" i="1" lang="en-US" sz="26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ichmond Hill employment services is some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o is unemployed (under 20 hours/w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a FT stu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on EI Parental or Sick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registered at another Employment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S services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0 SINS require a work per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 Permit must have no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TCU Progra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ntion Refugees require a letter of d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 Refer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referrals to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chmond Hill go through our 1-888-882-9550 Call Centre and then are transferred directly to our office in Richmond Hill where they are booked directly into our Steps To Success information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s can call on their own behalf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rganization can make the call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ller should say where they heard 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here to help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ask that you call us at anytime if you have questions or require additional information at 905-882-956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1" descr="MP900448494[1]"/>
          <p:cNvPicPr/>
          <p:nvPr/>
        </p:nvPicPr>
        <p:blipFill>
          <a:blip r:embed="rId1"/>
          <a:stretch/>
        </p:blipFill>
        <p:spPr>
          <a:xfrm>
            <a:off x="2286000" y="4191120"/>
            <a:ext cx="36576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Las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7848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Asking Us To Present Our Service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p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provided employment services to eligible Canadian residents since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ployment Services are funded by the Ministry of Training Colleges and Universities (MTCU) / Employment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st to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job-map-diagram"/>
          <p:cNvPicPr/>
          <p:nvPr/>
        </p:nvPicPr>
        <p:blipFill>
          <a:blip r:embed="rId1"/>
          <a:stretch/>
        </p:blipFill>
        <p:spPr>
          <a:xfrm>
            <a:off x="-228600" y="-54000"/>
            <a:ext cx="9372600" cy="73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gibility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Unique Programs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deal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r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nique Servic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ssist individuals who are looking for work by assessing their employm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elp them connect with appropriate </a:t>
            </a:r>
            <a:r>
              <a:rPr b="1" i="1" lang="en-CA" sz="32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CA" sz="32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rvices &amp; programs, and Ministry-sponsor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 ongoing support until sustainable employment is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1706400"/>
            <a:ext cx="7238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hough not really a service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ssist referrals with first-language support to get them off to a grea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though we prefer our referrals to be strong in their English skill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vel 5 CLB minim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have Mandarin &amp; Cantonese speaking staff in the Richmond Hill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 also have a diverse base of other languages to draw from if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483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Unique Languag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que Job Readiness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06400"/>
            <a:ext cx="39625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den Job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plac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ing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Winn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787040"/>
            <a:ext cx="3657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Canadian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to match individual’s skills and interests with employment opportunities and employers’ needs in the local labour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ments can includ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apprenticeship training; work trials (for determining employability) and work experience opportun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assistance is available through placement monitoring, support and follow 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ge incentives may be available to employer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4:21:47Z</dcterms:created>
  <dc:creator>paul burns</dc:creator>
  <dc:description/>
  <dc:language>en-US</dc:language>
  <cp:lastModifiedBy>aholmes</cp:lastModifiedBy>
  <dcterms:modified xsi:type="dcterms:W3CDTF">2011-07-08T18:56:11Z</dcterms:modified>
  <cp:revision>31</cp:revision>
  <dc:subject/>
  <dc:title>Slide 1</dc:title>
</cp:coreProperties>
</file>